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640" y="3879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064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468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0480" y="1324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0680" y="1324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0640" y="3879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0480" y="3879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0680" y="3879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3760" y="162000"/>
            <a:ext cx="851544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64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468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0640" y="3879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-</a:t>
            </a:r>
            <a:fld id="{D03A7706-2037-4955-A2D2-293C16BC88D9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Accountant’s Role in the Organiz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3760" y="307800"/>
            <a:ext cx="851544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 Themes of Value Enhanc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6040" y="3527280"/>
            <a:ext cx="777240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 Key success factors (KSF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 attention focused on critical factors relative to our competito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5120" y="4984920"/>
            <a:ext cx="777240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 Continuous improvement and benchmark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ver-ending search for higher levels of perform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01080" y="64962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2 - 1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9960" y="2390760"/>
            <a:ext cx="7772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 Value-chain and supply-chain analysi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 these critical func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8440" y="1266840"/>
            <a:ext cx="8363160" cy="106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 Customer Focu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ttract and retain profitable 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3760" y="307800"/>
            <a:ext cx="851544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y Themes in Management Decision Mak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03400" y="3470400"/>
            <a:ext cx="3295800" cy="2049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Key Success Factor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st and Efficiency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Quality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ime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novation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46840" y="3479760"/>
            <a:ext cx="2133720" cy="2011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ntinuou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mprovemen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enchmarking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6496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1360" y="3476520"/>
            <a:ext cx="2038320" cy="2019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Value-Chain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ly-Chain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nalysi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78160" y="1323720"/>
            <a:ext cx="2679840" cy="1158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Focu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305000" y="2629080"/>
            <a:ext cx="6486480" cy="723600"/>
            <a:chOff x="1305000" y="2629080"/>
            <a:chExt cx="6486480" cy="723600"/>
          </a:xfrm>
        </p:grpSpPr>
        <p:sp>
          <p:nvSpPr>
            <p:cNvPr id="107" name=""/>
            <p:cNvSpPr/>
            <p:nvPr/>
          </p:nvSpPr>
          <p:spPr>
            <a:xfrm>
              <a:off x="4610160" y="2629080"/>
              <a:ext cx="0" cy="7236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81800" y="2647800"/>
              <a:ext cx="2209680" cy="7048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305000" y="2657520"/>
              <a:ext cx="2381040" cy="6667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266920" y="4476600"/>
            <a:ext cx="4552920" cy="38160"/>
            <a:chOff x="2266920" y="4476600"/>
            <a:chExt cx="4552920" cy="38160"/>
          </a:xfrm>
        </p:grpSpPr>
        <p:sp>
          <p:nvSpPr>
            <p:cNvPr id="111" name=""/>
            <p:cNvSpPr/>
            <p:nvPr/>
          </p:nvSpPr>
          <p:spPr>
            <a:xfrm>
              <a:off x="2266920" y="4514760"/>
              <a:ext cx="590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29440" y="4476600"/>
              <a:ext cx="5904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 flipV="1">
            <a:off x="6191280" y="5041800"/>
            <a:ext cx="1905120" cy="7430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971640" y="5003640"/>
            <a:ext cx="2286000" cy="781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437920" y="5003640"/>
            <a:ext cx="1467000" cy="781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3924000" y="5003640"/>
            <a:ext cx="647640" cy="781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105520" y="5022360"/>
            <a:ext cx="323640" cy="7621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638680" y="5022360"/>
            <a:ext cx="990720" cy="7621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10600" y="3537000"/>
            <a:ext cx="150480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81760" y="3537000"/>
            <a:ext cx="161928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29240" y="3537000"/>
            <a:ext cx="152388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43160" y="3537000"/>
            <a:ext cx="167652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3537000"/>
            <a:ext cx="156240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480" y="3537000"/>
            <a:ext cx="184752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3600" y="261720"/>
            <a:ext cx="8138880" cy="63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Value Cha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78000" y="1134720"/>
            <a:ext cx="84391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quence of business functions in which utility (usefulness) is added to the products or services of an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helps managers to administer each of these business func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9520" y="37465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3613320"/>
            <a:ext cx="150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, Servi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0514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40514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4960" y="405144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stribu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05640" y="384192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62280" y="5807160"/>
            <a:ext cx="3867120" cy="7952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Management Account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91520" y="64800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3600" y="261720"/>
            <a:ext cx="8138880" cy="63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-Business Value Matr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05920" y="1820520"/>
            <a:ext cx="1924200" cy="310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sin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ritic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Importance of the application to the success of the business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64800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4600" y="2068560"/>
            <a:ext cx="1009800" cy="22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14880" y="1828800"/>
            <a:ext cx="27810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cell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2971800"/>
            <a:ext cx="28386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tion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riment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14880" y="2971800"/>
            <a:ext cx="27810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amental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1828800"/>
            <a:ext cx="28386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throu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4360" y="4210200"/>
            <a:ext cx="487692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w                         Hi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63880" y="4876920"/>
            <a:ext cx="4248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actice Innov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Creating new markets or new ways of doing business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9912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hical Guidel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230480"/>
            <a:ext cx="8610480" cy="118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fessional accounting organizations play an important role in promoting high standards of ethics in the accounting profess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29360" y="6480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 - 2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760" y="2639880"/>
            <a:ext cx="8610480" cy="31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de of Professional Ethic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ciety of Management Accountants of Canada (SMAC)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 in a responsible manner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tain independ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tain confidentiality of inform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rve with courtesy and good fait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tain standards of compet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ment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measures and reports financial and non-financial information that helps managers make decisions to fulfill the goals of an organization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s use management accounting information t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oose, communicate and implement strateg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ordinate product design, production and marketing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focuses on internal repor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is future orient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201080" y="64674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2-3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ancial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50640" y="1247400"/>
            <a:ext cx="8458200" cy="443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accounting measures and records business transactions and provides financial statements that are based on generally accepted accounting principles (GAAP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s are responsible for the financial statements issued to investors, government regulators, and other parties outside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accounting focuses on external par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accounting reports on what happened in the pa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38880" y="646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2-3 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Accounting and Cost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0640" y="1209240"/>
            <a:ext cx="8458200" cy="50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ccounting measures and reports information relating to the cost of acquiring and utilizing resource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ccounting provides information for management and financial accoun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management describes the approaches and activities of managers in short-run and long-run planning and control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se decisions increase value of customers and lower costs of products and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management is an integral part of a company’s strateg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38880" y="646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3-4 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ment Accountants and Strateg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0640" y="1190520"/>
            <a:ext cx="8458200" cy="50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y specifies how an organization matches its own capabilities with opportunities in the marketplace to accomplish its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y examp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y products or services at low prices (WestJe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que products or services at higher prices (Clublink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ants provide information to management such a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o are our customers and suppli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nsitivity of market to price, quality and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ustry characteristics (size, growth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19800" y="646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4-6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228600"/>
            <a:ext cx="7696080" cy="65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nning and Contro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04480" y="1136520"/>
            <a:ext cx="7962840" cy="7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agemen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agemen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190440" indent="0">
              <a:buNone/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cision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counting System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19800" y="6480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-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47600" y="2050920"/>
            <a:ext cx="26672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crease advertising rate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95720" y="2050920"/>
            <a:ext cx="26668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ges sold, rates per page, revenu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28880" y="3556080"/>
            <a:ext cx="268596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mplement rate increas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52960" y="3917880"/>
            <a:ext cx="26668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ccounting System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voices / receipts recorded in ledger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2560" y="4984920"/>
            <a:ext cx="27241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mparison of actual and  budgeted revenue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29280" y="5003640"/>
            <a:ext cx="266688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184680" indent="-1846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4680" indent="-184680" algn="ctr">
              <a:lnSpc>
                <a:spcPct val="100000"/>
              </a:lnSpc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Repor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4680" indent="-1846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ges sold, rate per page, revenu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-390960" y="3799440"/>
            <a:ext cx="14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53400" y="2050920"/>
            <a:ext cx="19810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Financia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representa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of pla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53400" y="3917880"/>
            <a:ext cx="19810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Record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ransactio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in accoun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5156280"/>
            <a:ext cx="19810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188280" indent="-188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mpar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8280" indent="-18828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budgeted an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8280" indent="-18828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actual resul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43880" y="5181480"/>
            <a:ext cx="152280" cy="876600"/>
          </a:xfrm>
          <a:custGeom>
            <a:avLst/>
            <a:gdLst>
              <a:gd name="textAreaLeft" fmla="*/ 0 w 152280"/>
              <a:gd name="textAreaRight" fmla="*/ 55080 w 152280"/>
              <a:gd name="textAreaTop" fmla="*/ 22680 h 876600"/>
              <a:gd name="textAreaBottom" fmla="*/ 853920 h 8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43880" y="3943440"/>
            <a:ext cx="152280" cy="876240"/>
          </a:xfrm>
          <a:custGeom>
            <a:avLst/>
            <a:gdLst>
              <a:gd name="textAreaLeft" fmla="*/ 0 w 152280"/>
              <a:gd name="textAreaRight" fmla="*/ 55080 w 152280"/>
              <a:gd name="textAreaTop" fmla="*/ 22680 h 876240"/>
              <a:gd name="textAreaBottom" fmla="*/ 85356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43880" y="2076480"/>
            <a:ext cx="152280" cy="876240"/>
          </a:xfrm>
          <a:custGeom>
            <a:avLst/>
            <a:gdLst>
              <a:gd name="textAreaLeft" fmla="*/ 0 w 152280"/>
              <a:gd name="textAreaRight" fmla="*/ 55080 w 152280"/>
              <a:gd name="textAreaTop" fmla="*/ 22680 h 876240"/>
              <a:gd name="textAreaBottom" fmla="*/ 85356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2933640"/>
            <a:ext cx="0" cy="55260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2571840"/>
            <a:ext cx="5904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24400" y="4438800"/>
            <a:ext cx="5904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580920" y="5753160"/>
            <a:ext cx="59076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09480" y="2571840"/>
            <a:ext cx="304920" cy="3219480"/>
            <a:chOff x="609480" y="2571840"/>
            <a:chExt cx="304920" cy="3219480"/>
          </a:xfrm>
        </p:grpSpPr>
        <p:sp>
          <p:nvSpPr>
            <p:cNvPr id="75" name=""/>
            <p:cNvSpPr/>
            <p:nvPr/>
          </p:nvSpPr>
          <p:spPr>
            <a:xfrm>
              <a:off x="609480" y="2571840"/>
              <a:ext cx="304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9480" y="2571840"/>
              <a:ext cx="19080" cy="3219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8560" y="5791320"/>
              <a:ext cx="2858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7680" y="201600"/>
            <a:ext cx="847728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y Management Accounting Guidel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93760" y="1275840"/>
            <a:ext cx="8362800" cy="160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-Benefit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end resources if they promote decision making that better attains the organization’s goals in relation to the cost of these re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67520" y="648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8 - 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3120" y="2995560"/>
            <a:ext cx="83059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havioural and Technical Considera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 are not confined exclusively to technical matte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ways consider the influences of human activ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1960" y="4815000"/>
            <a:ext cx="777240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t Costs for Different Purpos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fine”cost” depending on the situation under consider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3760" y="387000"/>
            <a:ext cx="8515440" cy="43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 and Staff Relationshi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3760" y="1324080"/>
            <a:ext cx="8362800" cy="134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ne management is directly responsible for attaining the objectives of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 in a manufacturing divis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124760" y="648324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9 - 1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3014640"/>
            <a:ext cx="777240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ff management exists to provide advice and assistance to line manage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a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1920" y="4710240"/>
            <a:ext cx="777240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ief financial officer (CFO) overse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ollership, Treasury, Tax, and Internal Audit functions in the organiz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3760" y="307800"/>
            <a:ext cx="851544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ctions of Management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9600" y="120924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ants perform three func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6960" y="3470400"/>
            <a:ext cx="7772400" cy="11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ttention-direc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 visible opportunities and problems on which managers need to focu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5120" y="4851360"/>
            <a:ext cx="777240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blem-solv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duct comparative analysis to identify the best alternatives in relation to the organization’s goal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43840" y="64962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9960" y="19717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orekeep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umulate data and report reliable results to all levels of manage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2T15:33:51Z</dcterms:created>
  <dc:creator>User</dc:creator>
  <dc:description/>
  <dc:language>en-US</dc:language>
  <cp:lastModifiedBy>John Moore</cp:lastModifiedBy>
  <cp:lastPrinted>1999-06-02T16:28:30Z</cp:lastPrinted>
  <dcterms:modified xsi:type="dcterms:W3CDTF">2003-03-22T13:38:28Z</dcterms:modified>
  <cp:revision>41</cp:revision>
  <dc:subject/>
  <dc:title>Role of the Management Accountant</dc:title>
</cp:coreProperties>
</file>